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4478-F93D-4D12-9200-DD97B9E077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805-53E3-46A1-A40D-BFB70965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802-4E4C-4F19-8D48-E542B336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0AA-C44F-4D82-A18C-A8398179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AD0-5EDF-4DEC-8823-1AD91B5C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DE92-0C57-42D0-A460-B9E2CBAD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4452-3CE7-46CA-A000-B89EB049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3FCE-26BE-422B-8E4C-6BA56EC7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885B-702B-4215-A584-2F36465E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4E1B-7CD0-4F2F-9BF6-6B6239EE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0BD5-2532-4FBF-A871-70B0309F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A3B6-302E-47BC-8F49-D588832F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455-0D1A-491E-A029-A036759D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2F95-5802-44A1-A81A-67CEFF05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EBB8-1085-4EB0-9AEB-8BCBF64D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28AF-2CB5-41F5-8FBC-62F94C9C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2778-042B-44DE-9466-0FC219BA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58A3-3CFB-4ACF-AAED-9923D32A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780-6C53-4695-BAD2-1F1EC50E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671-2139-4C4A-BB89-31EAFC1D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8E0-D45D-4D5B-BFE5-F0BC528E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1DF-8730-4C90-909A-3B3FF737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041-726A-45FD-AB9D-32A7CFF3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804-00EE-4229-A6B7-1E7759B8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56E-EE03-441A-BB0F-4D03926B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A746-C729-4FFE-99D6-5C5AC3F13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80C4-F075-4187-9E1A-C6CFE0C09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14:56Z</dcterms:modified>
  <cp:revision>99</cp:revision>
  <dc:subject/>
  <dc:title>PowerPoint Presentation</dc:title>
</cp:coreProperties>
</file>